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9.png" ContentType="image/png"/>
  <Override PartName="/ppt/media/image8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3F0E-B9D7-4AF7-9D2B-F60280945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D91-7810-4086-B1FB-BFFE5C2F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E68-73C7-4515-A307-1F54E070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20C-6159-413B-AFAC-F7FF1044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F60-1871-4E87-8E2E-05300A18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B20-292B-41E6-A4F2-4BEF3D00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B0A-DC2F-4F85-AFA4-B734BD4D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980-066C-4653-9A8E-F45A4061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25A-ADE5-40E4-B443-25138156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B99-3238-4CEE-992B-BFE7E09C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422-718C-470B-8A4F-1BAADFD1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519-8794-4129-BB95-9F4A0CB5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1D3-8D39-49E5-ABAD-9D4FD8D2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1A45-2BA5-4D26-8C30-FCCA89E07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Explorers and Pre- Columbian Civ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ames R. and Ryan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4495680"/>
            <a:ext cx="234288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80840" y="6324480"/>
            <a:ext cx="54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os.state.nm.us/images/Conquistador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29000" y="0"/>
            <a:ext cx="155736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16765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recolumbiancivilizations.pbworks.com/f/1242761780/toltec-indians0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3349800" cy="3581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93480" y="54100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from 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located in Central Mex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capital was Tenochtit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which means they believed in many g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ontrolled other tribes in the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Prisoners Of War as their sla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taken down by smallpox a disease brought by the Spanish accide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1295280"/>
            <a:ext cx="2219400" cy="181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4000680" cy="3219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22600" y="4724280"/>
            <a:ext cx="47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vcc.edu/home/amalitzkego/alex-solorzano/Ancient_Vacations/aztecs/images/aztec_map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located on the Yucatan Penins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many major cities which made it hard for the Spanish to conqu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 have as much gold as the Aztecs and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polytheistic which means the believed in many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slaves which could gain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5812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vcc.edu/home/amalitzkego/alex-solorzano/ancient_vacations/mayas/images/maya_map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3276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located on the Ande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capital city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which means they believed in many g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no written language but used knots as communication as well as spe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acticed animal sacrifice (Llamas) occasional children sacri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a civil war between two different groups to decide 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20 million members of their civiliz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257800" y="259092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52880" y="51814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ncp.edu/home/rwb/inca_map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onquered the Azt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thought Cortez was their god Quetzalcoa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estroyed Tenochtitlan and founded Mexico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and there leader welcomed Cort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ame to Mexico in 15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ere other natives who helped Cortez defeat Azt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86280" y="1600200"/>
            <a:ext cx="35625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63040" y="6172200"/>
            <a:ext cx="49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tc.usf.edu/clipart/100/113/cortez_1_lg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easily took over the huge empire of the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killed Atahualpa after Incas paid ransom to fre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used Inca engineering to his adva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raveled with only 180 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38796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14800" y="6216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tc.usf.edu/clipart/25200/25280/pizarro_25280_lg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the Spanish Changed Aztec, Maya, and Inca Life For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estroyed the Incas and Azt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anish brought smallpox to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rought their culture to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hanged many polytheistic religions to Christ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2971800" cy="2886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641200" y="4952880"/>
            <a:ext cx="2084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from 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46:22Z</dcterms:created>
  <dc:creator>jklib</dc:creator>
  <dc:description/>
  <dc:language>en-US</dc:language>
  <cp:lastModifiedBy>jklib</cp:lastModifiedBy>
  <dcterms:modified xsi:type="dcterms:W3CDTF">2011-11-29T16:10:46Z</dcterms:modified>
  <cp:revision>12</cp:revision>
  <dc:subject/>
  <dc:title>Spanish Explorers and Pre- Columbian Civilizations</dc:title>
</cp:coreProperties>
</file>